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7DE2C5F-6F72-46DB-AEB5-0D4A3FD697DC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08949E83-5B52-4F61-81A7-F67F0DAF5FF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B3DC20C-59C3-4CB4-A9BF-7D11ED7D22B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37427AA-83A9-47A9-AF4D-E54714AD375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F6CA287-5DC2-4DF9-8D11-CAA61335416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D847562-C0BB-4298-A96E-0494FB59617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5B9A299-65B3-436D-8AAE-8488CED87D8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70A1924-85ED-440E-8300-EE88DFCE324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D0079DB-D73E-411B-95F4-1E10FDF7876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6DCB4B8-7D3F-4590-ADDA-96396CE0603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22F3E81-D44F-47D9-97E5-E14AD8DD795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F3AFA4E-EBB5-41D2-8DC6-A40FD214B75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C5ABA9D-47C9-42C6-B6B5-D4983D31B12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77D93B9-517F-4687-ACCA-817CD6E1ECD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E1CB959-1522-4FB2-9588-913069E7C34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A35EA67-801B-47C4-883C-E8B4BBBDF99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682121-7DDB-427A-B98D-A07B034860E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FC2D538-5B7B-492B-B596-6C1936859DC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0948885-B9D5-4784-819C-2FD6059044D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260C86-C083-48DC-BBF2-0096125E3F9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28FB326-7CD2-4689-B705-6F25753C511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081A66A-C75F-4B0A-97CB-868114AB52A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3A4AA95-2A47-4632-ABB2-C5C606F7191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F6ABC54-7221-47D9-9D6A-5514D24A0D4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533AD77-536E-4128-8631-59E6EE82C2B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C88329E-D601-4DC7-8345-7273E4DD5AC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AC82025-29AA-4403-8272-A438F00A342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A8B4553B-3B2B-40E0-A2BD-0BB265EFB01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67A82025-48E1-4427-BF95-D42001F85F7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88848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4: Midterm Analysis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Good Is My Proces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dimensions of process quality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e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improvement must start from the current process, the first step is to establish measures of current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you can ask more informed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ing Process Quality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building a basic understanding of your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do you d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o you spen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is this time distribut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predictable is your wor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stable is your wor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quality of the products you produ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addresses these issues by gathering basic process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Measu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asic PSP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spent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and injected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th actual and estimated data are gathered on every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rived measures establis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to support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s of process qual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iz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size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a consistent size meas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basis for normalizing time and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make better siz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size program did I plan to develop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ccurate was my size estim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my size estimates biased in any wa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was the complete size description of the finished progra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Tim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time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how much time you spend in each PSP ph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you to make better tim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you plan to spend by PSP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you spend by PSP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here any trends in your time estimating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Defect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s of the PSP defect measur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historical baseline of def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umbers and types of defects inj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relative costs of removing defects in each PSP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estions aske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 defects did I make in each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 defects did I remove in each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time did it take to find and fix each defec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ablishing a Process Baseline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you getting bette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n objective basis to te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alone will not cause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var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erformance will fluctu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is a statistical ques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lst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utc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1720" y="1463400"/>
            <a:ext cx="7727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assignment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process for analyzing your PSP data and producing a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planning and postmortem phases in this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proces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the R4 report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your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the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postmor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report, process, and the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01360" y="1450800"/>
            <a:ext cx="7956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port must cont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for size time estimating accuracy and how it evolved during the programs developed to 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for time estimating accuracy and how it evolved during the programs developed to 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 types injected and removed for the programs developed to date (table D23, page 77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s found by the compiler (table D24, page 77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nalysis of the defect fix times,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scription of your highest-priority areas for personal process improvement, with rationa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tting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13960" y="1450800"/>
            <a:ext cx="7854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are expected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your highest-leverage opportunities for improving your personal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quantitative, measurab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cribe the specific actions (e.g. process changes) that you will take to achieve the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a minimum, you should take the following steps to establish your go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ine your PSP data to understand your current performanc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potential improv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oritize improvement areas based on potential leve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an analysis to identify the cause of current performance and to establish specific future performance lev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the specific actions needed to achieve these performance lev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Guideli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nt the charts from your student workbook that cover the minimum analys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ze your data.  There are study questions that provide an example of how you might analyze your data for specific areas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e sure to include any additional charts that you use in your analysis in your rep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cus on analyzing your data 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 where you need to impro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challenging improvement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rstand how to change your personal process to meet those go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22920" indent="-1994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rite up a brief report describing your findings and conclusio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ep your report simple and sh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718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LOC Estimating Accurac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22240" y="1649520"/>
            <a:ext cx="79725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trend in your size estimating accuracy over the first six programs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of programs 4, 5, and 6, how does the estimated object LOC compare with the actual object LOC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of programs 4, 5, and 6, if the estimated object LOC is not close to the actual object LOC, determine why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 above analysis, what is the best thing you could do to improve your estimating accurac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PROBE tab of your student workbook and set the program selector for program 7.  Examine the method A betas.  Are they usable for estimating program 7?  Explain why or why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9200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Time Estimating Accuracy and Productiv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20440" y="1655640"/>
            <a:ext cx="7700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trend in your effort estimating accuracy over the first six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first six programs, how stable was your productiv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first six programs, if your productivity varied, are the changes in productivity related to the amount of time you spent fixing defects in the compile and test phas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was the accuracy of your time estimates affected by the accuracy of your size estimat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PROBE tab of your student workbook and set the program selector for program 7.  Examine the method A betas.  Are they usable for estimating program 7?  Explain why or why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510840"/>
            <a:ext cx="79200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 Types Injected and Removed by Pha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20440" y="1655640"/>
            <a:ext cx="7700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injected most in the design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injected most in the code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primarily removed in the compile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types of defects are primarily removed in the test phas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 Fix Tim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0800" y="1452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defect fix times, based on the phase defects are injected and rem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category had the largest average fix tim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category had the largest total fix tim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sis of Defects Found by the Compil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20800" y="1668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compiler’s effectiveness of removing defects by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d the compiler find all of your type 20 (syntax/typo) defect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process design must include 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nning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mortem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must subm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process scri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lanning form you created and u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 forms or logs you u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report must inclu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of the tables and charts required, plus any other charts or data that support your analysi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written analysis and conclu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itative, measurable improvement goals, and specific actions that you plan to take to achieve thos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450800"/>
            <a:ext cx="7981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for this assignment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rinciples of process measurement and analy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in experience in defining a process for your own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to analyze your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your baseline process and how it has changed during the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measurable goals and to define corresponding improvement a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Measurement Princi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ful, measurements should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ed for a specific purpo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ly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us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ing your process will not improve it.  You must make process changes to achieve lasting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Measurement Purpos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measu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and manage ch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 or plan for the futu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one product, process, or organization with ano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adherence to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emen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ments only produce nu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ful, they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o business objec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operly interpre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 to appropriate ac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business purposes for the measurements are not understo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rong data may be gath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ay not be used proper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Measu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8200" y="1447920"/>
            <a:ext cx="77976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ments may be ei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ive or subjecti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solute or relati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 or deriv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or static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ve or explanator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generally seek objective, absolute, and explicit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may be dynamic or static, predictive or explanat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576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Measu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0800" y="143496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seek useful relationships that correlate, such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size versus development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distrib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ens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lso seek controlling or predictive parameters, such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to reduce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eps to improve review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s to improve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020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General PSP Qu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good is my proces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can it be improved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most important improvement I should make now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others doing that works bette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can I learn from other peopl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12T15:31:50Z</cp:lastPrinted>
  <dcterms:modified xsi:type="dcterms:W3CDTF">2018-09-06T00:17:06Z</dcterms:modified>
  <cp:revision>72</cp:revision>
  <dc:subject/>
  <dc:title>No Slide Title</dc:title>
</cp:coreProperties>
</file>